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F3B9-A3FE-473B-B9A6-2C76B298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6334-EE9F-4A5F-8F79-4A8CCFAF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7245-5F23-4609-85ED-A6C80CE8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BACA-09F6-4BFD-9CC4-90CFAC2C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F9F0A-1762-47E4-A301-8E6B0747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AF125-36E9-4433-A79F-68DB1DF0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D82B8-2E68-4A66-9AB8-3799B4C6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41D4B-E883-4B9E-9E09-E5FB664E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F515E-6467-458B-8E08-5A0D4BED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EC32C-FD64-43DF-82EC-17F2A064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22A68-2816-48AD-8BE8-97342E9F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19E-DD36-4132-8121-446B1E31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466E6-2E96-489A-AE0C-BB07FC63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E947C-1FA5-4AEF-8A53-F838197C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12A40-3558-48FD-8B4A-E6110AB4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C3818-E90C-4C4E-BD39-99E3868A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B87AE-23F9-439A-9BA0-1DE03BEE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2735A-66BB-4071-B871-D0DD2DD7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4C1A9-32A9-448D-B442-A26C683A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EB971-E191-4796-B331-A4E2E3B5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18976-AF46-460A-BF0D-C481C0D9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5BCAF-2F90-4D37-9D4F-DCFC8376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E4D-7498-40F2-A4A8-F0C95E08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B4625-ADCB-4B2A-BFAA-974FDE55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21CD9-3F4D-46A1-9E1E-499F97F1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D0621-9A3A-4F07-95FF-02151B02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F8520-25AF-4598-B4C7-3E5AD724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B2C6E-9890-4DC4-8FE5-0307D999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AC3F1-A5FA-4ED5-B4F3-B7172055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A372D-2F47-4D5C-8243-9BE5BFA3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5DF98E-1EA9-4344-8E1D-6E53BBA8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83C31D-791B-49DA-B03E-F0107146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CDF77C-C6DC-456C-9CEF-303DCFBA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3D6A-D023-4910-AC3D-65DE8E4E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FA73A9-6F99-4B76-84AB-E942445C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A9577E-AC4E-4DA8-8A0D-CB4C4580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CD7755-4372-4FE9-93D1-227EBE33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0BE449-B8A9-4F70-9FAF-29F8C7B3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4249A2-E9CB-4C91-807D-A0B9E13B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783768-11DE-4129-B962-846938DE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85690E-6FB9-4BC8-B06A-57F80D19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8910F1-D31F-4449-BDA5-D2F9EE75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045F10-CE9A-47BD-AA9F-9B995501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304191-2B0B-48BF-83D5-7C5D254D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08B-E30C-4A3F-A198-6053F864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8F3A4-57C1-44D9-AAAF-D3AA5FAF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065FB4-6721-4428-BBA3-2395A87A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ECAE27-922E-4468-8459-BCE2F890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939995-C02B-49E6-864D-5F33ACD6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B6C567-F18D-4F04-BF6F-433BFBBB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E63761-B986-463D-8D3F-757E7618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DC147B-759C-4747-B9AC-C29E83A6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862656-67C2-416C-97EC-C3501920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DBBD8A-5B3D-49A9-94F0-FA192D50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FC94B0-EE88-43A2-9552-E7AF945D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FC3-5C0A-4061-BE30-60004505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513C23-F9D4-43F6-9613-9799C420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A8999C-40DB-40A5-9569-FB2837EE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DCB724-11EE-444D-8736-2D6BC491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CC01F1-6014-46ED-B892-43EB4628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F24598-A934-4C4E-968D-957DF9AE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9B6098-D9E7-48D2-B56A-C4153B3C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BDB394-7E95-4216-B54E-7642225A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3A892-3F86-422A-9161-EAE35B1D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70D81A-83F0-4837-BE8A-F807F7F5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A9AABF-06F3-4B4B-94C1-D60844E0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D192-586E-4556-9C18-CA7ECCD5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3339D3-C55B-434B-8BF7-791AB2FC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3CF57E-1EA8-4247-8C6B-25B63AD8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F582C2-7D82-45F2-895F-D953EEC5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434B-7EEB-4661-808A-A41A6DCA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8323-82C0-45CB-B36F-6D05351C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5BDA-B940-4E83-9ECC-C2C4EB3DD996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6D03-47D6-4E71-9778-25DBA4488EA5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40D8-5AAA-4EFF-8AE9-FD5084FB97E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884C-AC9F-463D-8FE1-D14CAE21031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EFE8-24AA-4039-8080-B52367FF2E33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A834-D4EA-4E7C-A60A-CC432C1960B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Oval 3"/>
          <p:cNvSpPr/>
          <p:nvPr/>
        </p:nvSpPr>
        <p:spPr>
          <a:xfrm>
            <a:off x="228600" y="228600"/>
            <a:ext cx="8610480" cy="6324480"/>
          </a:xfrm>
          <a:prstGeom prst="ellipse">
            <a:avLst/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EDUCATIONAL TECHNOLOG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Oval 6"/>
          <p:cNvSpPr/>
          <p:nvPr/>
        </p:nvSpPr>
        <p:spPr>
          <a:xfrm>
            <a:off x="1295280" y="1523880"/>
            <a:ext cx="6400800" cy="4038840"/>
          </a:xfrm>
          <a:prstGeom prst="ellipse">
            <a:avLst/>
          </a:prstGeom>
          <a:solidFill>
            <a:srgbClr val="9c85c0"/>
          </a:solidFill>
          <a:ln w="38160">
            <a:solidFill>
              <a:srgbClr val="716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2895480" y="182880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INSTRUCTIONAL TECHNOLOG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Oval 9"/>
          <p:cNvSpPr/>
          <p:nvPr/>
        </p:nvSpPr>
        <p:spPr>
          <a:xfrm>
            <a:off x="2895480" y="2743200"/>
            <a:ext cx="3124440" cy="18288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3048120" y="335268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TECHNOLOGY INTEGR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3:01:31Z</dcterms:created>
  <dc:creator>Barsales</dc:creator>
  <dc:description/>
  <dc:language>en-US</dc:language>
  <cp:lastModifiedBy>Barsales</cp:lastModifiedBy>
  <dcterms:modified xsi:type="dcterms:W3CDTF">2012-07-10T13:04:10Z</dcterms:modified>
  <cp:revision>1</cp:revision>
  <dc:subject/>
  <dc:title>PowerPoint Presentation</dc:title>
</cp:coreProperties>
</file>